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467-0ACD-4E8C-836C-1FA4D60C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E60-8502-44EE-BE23-52D00EB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97C-82F1-4A78-BAA0-6220B79A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18D-79FC-4F25-850F-AD0A9086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C90E-B55F-4CBD-AEBA-3EF671B8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34D2-7C45-4ECA-94FA-D7E942A4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DF5F-B8F5-4B16-9D69-A58EA784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A575-5E66-43BA-86E4-A319570B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5898-7CBC-4847-B177-5B947E2C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40FC-FD77-48C5-ADA8-21F2B91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8621-E723-46F2-81C2-2CFF1622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3D9-8217-4B71-A865-9657913C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AAC4-F610-46E4-81F3-094E444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12F0-5F09-4E63-9B32-C78D750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D9C8-AE05-49F8-91C8-641BB312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0CA-731D-4DED-94C8-F1AA10B6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06C-ED19-4B9C-9A4F-2DA5D5A2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E27-4360-48F3-9743-9D27B04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804-29A6-4DEA-B786-5772719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F89-3D32-4D58-98E0-A6909662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28D-29CE-43EA-9FEE-E34B3FF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981-6640-4E90-B4B8-8DAE1D1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98E-E50F-4121-A429-1B9A9052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CA6-2646-4E8B-B7B2-D8F2918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86F-7013-4EDF-8EC0-DE2AF820E3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8C1A-7C08-466A-9150-BAC6DAFBEA7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Law Revie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pter 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ionization energ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14479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rgy required to remove one electron from a neutral atom of an element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32004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zation energies of the main group elements increase across a perio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zation energies of the main group generally decrease down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atomic radiu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06668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distance between two bonded atoms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2666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radius decreases across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radius increases down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ionic radii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10666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distance between 2 bonded atoms that are a cation or anion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2590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ionic radii decrease across a period.  Anionic radii decrease across each perio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54100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radii (cationic and anionic) increase down a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valence electron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60020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electrons found in the outermost s and p orbitals. They are available to gain, lose or share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3733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 increase by 1 in the main group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52578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 remain the same in each family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200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ad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u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i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mi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3200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in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man organized the periodic table by increasing atomic mas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man organized the periodic table by increasing atomic numb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periodic law i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1447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3886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Mosele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5715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nd chemical properties are periodic functions of their atomic numb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g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5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di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yll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hiu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many atoms are in 1 mol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above number referred to a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protons is called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1066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3200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gadro’s numb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28800" y="53341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umber of protons + neutrons is call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toms of the same element which differ in the number of neutrons are call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average mass taking into account the abundance of all of the isotopes of that element is call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10666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3581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594360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(that’s why it is a decimal on the periodic tab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you obtain the mass number when all you are given on the periodic table is atomic number and atomic mas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ment [He] 2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ment [Kr] 5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23623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ing the atomic mass to the nearest whole number will give you the mass number of the most common isotope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7920" y="4267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8680" y="5486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b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ctron configuration for 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ctron configuration for 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lectron configuration for K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1066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3200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4952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oble gas configuration for 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oble gas configuration for 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oble gas configuration for 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990720"/>
            <a:ext cx="464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[Ne]3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00200" y="320040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[Ar]4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28800" y="53341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[He]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8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4 .0mol O to atoms of 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25.0 x 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23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toms S to mol 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14.0 g Mg to mol M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0 mol O x 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=2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l O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.0 x 10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oms S x 1 mol             =4.15 mol 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022 x 1023 a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495288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0 g Mg x 1 mol Mg = .576 mol M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30 g M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106668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327672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19520" y="5105520"/>
            <a:ext cx="0" cy="9144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43000" y="1600200"/>
            <a:ext cx="6324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66680" y="3733920"/>
            <a:ext cx="6324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5562720"/>
            <a:ext cx="6324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8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14.0 g of O to mol 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10.0 g of Au to atoms A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vert 5.0 g S to atoms of 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1066680"/>
            <a:ext cx="6096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0 g O x 1 mol =.875 mol O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0 g O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5909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0 g Au x      6.022 x 1023 atoms Au =3.0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.97 g Au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197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0 g S x 6.022 x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 S = 9.4 x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 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.065 g 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1600200"/>
            <a:ext cx="6324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4952880"/>
            <a:ext cx="6324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3124080"/>
            <a:ext cx="63248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90920" y="914400"/>
            <a:ext cx="0" cy="1295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23880" y="4495680"/>
            <a:ext cx="0" cy="1295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0" y="2666880"/>
            <a:ext cx="0" cy="1295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iodic functions means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first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second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peating trend because of.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7432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5334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o last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ame of the last fami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all ends in 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1066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2004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28800" y="5334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ends in p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ends in s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ends in p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066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200" y="3200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three families are highly react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is relatively unreact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gains 1e- when bo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52388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 metals, halogens, and alkaline earth meta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3733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5791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loses 1 e- when bo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loses 2e- when bond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family has a full s and p orbital in the principal energy leve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37160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3809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5943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electronegativit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1447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easure of the tendency of an atom to gain an electron from another atom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32004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egativity increase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49528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egativity decrease or remain the sam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finition of electron affinit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across a period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end down a family/gro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5238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rgy change that occurs when an electron is acquired by a neutral atom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3048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affinity become more negative in the p block; becomes more positive going from group 1 to group 2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5334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ies become les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6:05:41Z</dcterms:created>
  <dc:creator>J Tucker</dc:creator>
  <dc:description/>
  <dc:language>en-US</dc:language>
  <cp:lastModifiedBy>J Tucker</cp:lastModifiedBy>
  <dcterms:modified xsi:type="dcterms:W3CDTF">2007-11-02T18:36:14Z</dcterms:modified>
  <cp:revision>8</cp:revision>
  <dc:subject/>
  <dc:title>Periodic Law Review </dc:title>
</cp:coreProperties>
</file>